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3814-2CAF-4DA0-AF72-A3662105AB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D72F-407C-4A09-B796-1C944983B6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B23CD-A05A-43EC-A98E-0F66E3543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660CA-B4F0-49F4-972D-382B85846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1371-50B2-424F-BACA-FEA66193A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EC210-2B72-426E-9BE5-B79FE28BB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B5258-61F3-46D2-B025-D61F7B099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6A292-DFA4-4A4A-AF51-E00FA904C6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1061-5403-4089-A00B-058DF5D69C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67239-7040-4B10-B375-607883C0B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A2DE-3D68-475A-96FF-736EEDA61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7289-EAD4-4FE8-8C6A-8EA4E85F2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F98E-9F2B-46D3-8706-99EC0F71C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9176-F52A-495E-92B1-6BF3A8632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4DF19-0B96-4683-AFA0-CE56A935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61018-57D6-45D2-8B53-5F8AF2500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7F27-675D-4EF2-9DA8-7C0CE4DDF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A3BDC-0EB4-471D-8234-86FA7DECF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A1F-5E18-4776-BFDF-4A815F267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3CFE-F20A-4AC5-B0B5-4312170A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C124-AB57-4D15-9F76-467E95F41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D114D-1C80-4910-BFF7-6ACF22D80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5E03-5AAA-450E-BD13-0F3558A8E7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hyperlink" Target="http://www.camstudio.org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9"/>
          <p:cNvGrpSpPr/>
          <p:nvPr/>
        </p:nvGrpSpPr>
        <p:grpSpPr>
          <a:xfrm>
            <a:off x="223920" y="217440"/>
            <a:ext cx="8653320" cy="6486480"/>
            <a:chOff x="223920" y="217440"/>
            <a:chExt cx="8653320" cy="6486480"/>
          </a:xfrm>
        </p:grpSpPr>
        <p:pic>
          <p:nvPicPr>
            <p:cNvPr id="49" name="Rectangle 3" descr=""/>
            <p:cNvPicPr/>
            <p:nvPr/>
          </p:nvPicPr>
          <p:blipFill>
            <a:blip r:embed="rId1"/>
            <a:stretch/>
          </p:blipFill>
          <p:spPr>
            <a:xfrm>
              <a:off x="223920" y="217440"/>
              <a:ext cx="865332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0" name="Rounded Rectangle 5"/>
            <p:cNvGrpSpPr/>
            <p:nvPr/>
          </p:nvGrpSpPr>
          <p:grpSpPr>
            <a:xfrm>
              <a:off x="603360" y="529560"/>
              <a:ext cx="7978680" cy="5879880"/>
              <a:chOff x="603360" y="529560"/>
              <a:chExt cx="7978680" cy="5879880"/>
            </a:xfrm>
          </p:grpSpPr>
          <p:pic>
            <p:nvPicPr>
              <p:cNvPr id="5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3360" y="529560"/>
                <a:ext cx="797868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"/>
              <p:cNvSpPr/>
              <p:nvPr/>
            </p:nvSpPr>
            <p:spPr>
              <a:xfrm>
                <a:off x="1008000" y="929520"/>
                <a:ext cx="717012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53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3680" y="213336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Box 7"/>
          <p:cNvSpPr/>
          <p:nvPr/>
        </p:nvSpPr>
        <p:spPr>
          <a:xfrm>
            <a:off x="685800" y="39625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254061"/>
                </a:solidFill>
                <a:latin typeface="Arial"/>
              </a:rPr>
              <a:t>CDEEP, IIT Bomb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8"/>
          <p:cNvSpPr/>
          <p:nvPr/>
        </p:nvSpPr>
        <p:spPr>
          <a:xfrm>
            <a:off x="685800" y="525780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cdeep.iitb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5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9"/>
          <p:cNvGrpSpPr/>
          <p:nvPr/>
        </p:nvGrpSpPr>
        <p:grpSpPr>
          <a:xfrm>
            <a:off x="223920" y="217440"/>
            <a:ext cx="8653320" cy="6486480"/>
            <a:chOff x="223920" y="217440"/>
            <a:chExt cx="8653320" cy="6486480"/>
          </a:xfrm>
        </p:grpSpPr>
        <p:pic>
          <p:nvPicPr>
            <p:cNvPr id="58" name="Rectangle 3" descr=""/>
            <p:cNvPicPr/>
            <p:nvPr/>
          </p:nvPicPr>
          <p:blipFill>
            <a:blip r:embed="rId1"/>
            <a:stretch/>
          </p:blipFill>
          <p:spPr>
            <a:xfrm>
              <a:off x="223920" y="217440"/>
              <a:ext cx="865332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9" name="Rounded Rectangle 5"/>
            <p:cNvGrpSpPr/>
            <p:nvPr/>
          </p:nvGrpSpPr>
          <p:grpSpPr>
            <a:xfrm>
              <a:off x="603360" y="529560"/>
              <a:ext cx="7978680" cy="5879880"/>
              <a:chOff x="603360" y="529560"/>
              <a:chExt cx="7978680" cy="5879880"/>
            </a:xfrm>
          </p:grpSpPr>
          <p:pic>
            <p:nvPicPr>
              <p:cNvPr id="6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03360" y="529560"/>
                <a:ext cx="797868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"/>
              <p:cNvSpPr/>
              <p:nvPr/>
            </p:nvSpPr>
            <p:spPr>
              <a:xfrm>
                <a:off x="1008000" y="929520"/>
                <a:ext cx="717012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3680" y="2286000"/>
            <a:ext cx="868680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Calibri"/>
              </a:rPr>
              <a:t>SPONSORED BY</a:t>
            </a:r>
            <a:br>
              <a:rPr sz="3200"/>
            </a:b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Talk to a Teacher Proje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1600200" y="4902120"/>
            <a:ext cx="57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7375e"/>
                </a:solidFill>
                <a:latin typeface="Arial"/>
              </a:rPr>
              <a:t>MH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8"/>
          <p:cNvSpPr/>
          <p:nvPr/>
        </p:nvSpPr>
        <p:spPr>
          <a:xfrm>
            <a:off x="1143000" y="8380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54061"/>
                </a:solidFill>
                <a:latin typeface="Arial"/>
              </a:rPr>
              <a:t>A SPOKEN TUTORI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9"/>
          <p:cNvSpPr/>
          <p:nvPr/>
        </p:nvSpPr>
        <p:spPr>
          <a:xfrm>
            <a:off x="685800" y="5562720"/>
            <a:ext cx="777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www.sakshat.ac.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0"/>
          <p:cNvSpPr/>
          <p:nvPr/>
        </p:nvSpPr>
        <p:spPr>
          <a:xfrm>
            <a:off x="685800" y="3848040"/>
            <a:ext cx="7772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National Mission on Education</a:t>
            </a:r>
            <a:br>
              <a:rPr sz="2800"/>
            </a:br>
            <a:r>
              <a:rPr b="1" lang="en-US" sz="2800" spc="-1" strike="noStrike">
                <a:solidFill>
                  <a:srgbClr val="17375e"/>
                </a:solidFill>
                <a:latin typeface="Arial"/>
              </a:rPr>
              <a:t>through I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" dur="250" autoRev="1" fill="hold"/>
                                        <p:tgtEl>
                                          <p:spTgt spid="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69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0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7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72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76" name="TextBox 6"/>
          <p:cNvSpPr/>
          <p:nvPr/>
        </p:nvSpPr>
        <p:spPr>
          <a:xfrm>
            <a:off x="838080" y="3376440"/>
            <a:ext cx="754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375e"/>
                </a:solidFill>
                <a:latin typeface="Arial"/>
              </a:rPr>
              <a:t>Animation and Nar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25" dur="2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78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8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85" name="TextBox 6"/>
          <p:cNvSpPr/>
          <p:nvPr/>
        </p:nvSpPr>
        <p:spPr>
          <a:xfrm>
            <a:off x="838080" y="2514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is a screen-recording soft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records all activities that you see on your screen in AVI format and allows you to play them back later 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87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89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1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94" name="TextBox 7"/>
          <p:cNvSpPr/>
          <p:nvPr/>
        </p:nvSpPr>
        <p:spPr>
          <a:xfrm>
            <a:off x="914400" y="2162160"/>
            <a:ext cx="73915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You can use CamStudio to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demonstrate features of a new softw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reate audio-video tutorials for schools / colle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reate AVI video movies used in user trainin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show how to perform an activ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onvert AVI files to Flash (SWF)  files and man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other u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TextBox 8"/>
          <p:cNvGrpSpPr/>
          <p:nvPr/>
        </p:nvGrpSpPr>
        <p:grpSpPr>
          <a:xfrm>
            <a:off x="957240" y="5187960"/>
            <a:ext cx="7388280" cy="1146240"/>
            <a:chOff x="957240" y="5187960"/>
            <a:chExt cx="7388280" cy="1146240"/>
          </a:xfrm>
        </p:grpSpPr>
        <p:pic>
          <p:nvPicPr>
            <p:cNvPr id="96" name="TextBox 8" descr=""/>
            <p:cNvPicPr/>
            <p:nvPr/>
          </p:nvPicPr>
          <p:blipFill>
            <a:blip r:embed="rId4"/>
            <a:stretch/>
          </p:blipFill>
          <p:spPr>
            <a:xfrm>
              <a:off x="957240" y="5187960"/>
              <a:ext cx="7388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" name=""/>
            <p:cNvSpPr/>
            <p:nvPr/>
          </p:nvSpPr>
          <p:spPr>
            <a:xfrm>
              <a:off x="1295280" y="5481720"/>
              <a:ext cx="670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17375e"/>
                  </a:solidFill>
                  <a:latin typeface="Calibri"/>
                </a:rPr>
                <a:t>The uses of this little known software are limitless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4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99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01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2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6"/>
          <p:cNvSpPr/>
          <p:nvPr/>
        </p:nvSpPr>
        <p:spPr>
          <a:xfrm>
            <a:off x="838080" y="2514600"/>
            <a:ext cx="7543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can be used with Microsoft Windows 95, 98, Me, NT 4.0, 2000 or XP version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The minimum requirements are as follows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400 MHz process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64 M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4 MB of hard-disk space for program instal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4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4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08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9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10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1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15" name="TextBox 6"/>
          <p:cNvSpPr/>
          <p:nvPr/>
        </p:nvSpPr>
        <p:spPr>
          <a:xfrm>
            <a:off x="838080" y="25146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CamStudio is an open source software and can be downloaded free of cost from the intern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7375e"/>
                </a:solidFill>
                <a:latin typeface="Arial"/>
              </a:rPr>
              <a:t>Go to the s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www.camstudio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6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1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17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8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19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0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1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368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7375e"/>
                </a:solidFill>
                <a:latin typeface="Calibri"/>
              </a:rPr>
              <a:t>How to use CamStudio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Advanced Featur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Group 9"/>
          <p:cNvGrpSpPr/>
          <p:nvPr/>
        </p:nvGrpSpPr>
        <p:grpSpPr>
          <a:xfrm>
            <a:off x="152280" y="217440"/>
            <a:ext cx="8839440" cy="6486480"/>
            <a:chOff x="152280" y="217440"/>
            <a:chExt cx="8839440" cy="6486480"/>
          </a:xfrm>
        </p:grpSpPr>
        <p:pic>
          <p:nvPicPr>
            <p:cNvPr id="125" name="Rectangle 3" descr=""/>
            <p:cNvPicPr/>
            <p:nvPr/>
          </p:nvPicPr>
          <p:blipFill>
            <a:blip r:embed="rId1"/>
            <a:stretch/>
          </p:blipFill>
          <p:spPr>
            <a:xfrm>
              <a:off x="176400" y="217440"/>
              <a:ext cx="8742240" cy="6486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6" name="Rounded Rectangle 5"/>
            <p:cNvGrpSpPr/>
            <p:nvPr/>
          </p:nvGrpSpPr>
          <p:grpSpPr>
            <a:xfrm>
              <a:off x="560520" y="529560"/>
              <a:ext cx="8065440" cy="5879880"/>
              <a:chOff x="560520" y="529560"/>
              <a:chExt cx="8065440" cy="5879880"/>
            </a:xfrm>
          </p:grpSpPr>
          <p:pic>
            <p:nvPicPr>
              <p:cNvPr id="127" name="Rounded 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560520" y="529560"/>
                <a:ext cx="8065440" cy="58798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8" name=""/>
              <p:cNvSpPr/>
              <p:nvPr/>
            </p:nvSpPr>
            <p:spPr>
              <a:xfrm>
                <a:off x="964440" y="929520"/>
                <a:ext cx="7253280" cy="5080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TextBox 2"/>
            <p:cNvSpPr/>
            <p:nvPr/>
          </p:nvSpPr>
          <p:spPr>
            <a:xfrm>
              <a:off x="152280" y="279360"/>
              <a:ext cx="883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DEEP, IIT Bomba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0" name="Picture 9" descr="iitb_logo.jpg"/>
          <p:cNvPicPr/>
          <p:nvPr/>
        </p:nvPicPr>
        <p:blipFill>
          <a:blip r:embed="rId3">
            <a:lum bright="80000"/>
          </a:blip>
          <a:stretch/>
        </p:blipFill>
        <p:spPr>
          <a:xfrm>
            <a:off x="2819520" y="2133720"/>
            <a:ext cx="3379680" cy="32385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3680" y="2514240"/>
            <a:ext cx="86868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17375e"/>
                </a:solidFill>
                <a:uFillTx/>
                <a:latin typeface="Calibri"/>
              </a:rPr>
              <a:t>Talk to a Teacher</a:t>
            </a: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National Mission on Education</a:t>
            </a:r>
            <a:br>
              <a:rPr sz="4400"/>
            </a:br>
            <a:r>
              <a:rPr b="0" lang="en-US" sz="4400" spc="-1" strike="noStrike">
                <a:solidFill>
                  <a:srgbClr val="17375e"/>
                </a:solidFill>
                <a:latin typeface="Calibri"/>
              </a:rPr>
              <a:t>through IC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Text Box 10"/>
          <p:cNvSpPr/>
          <p:nvPr/>
        </p:nvSpPr>
        <p:spPr>
          <a:xfrm>
            <a:off x="1600200" y="5486400"/>
            <a:ext cx="57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d4575"/>
                </a:solidFill>
                <a:latin typeface="Arial"/>
              </a:rPr>
              <a:t>An MHRD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5" dur="250" autoRev="1" fill="hold"/>
                                        <p:tgtEl>
                                          <p:spTgt spid="13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6T20:37:51Z</dcterms:created>
  <dc:creator>ABC</dc:creator>
  <dc:description/>
  <dc:language>en-US</dc:language>
  <cp:lastModifiedBy>Nancy</cp:lastModifiedBy>
  <dcterms:modified xsi:type="dcterms:W3CDTF">2012-02-17T13:29:00Z</dcterms:modified>
  <cp:revision>28</cp:revision>
  <dc:subject/>
  <dc:title>How to use CamStudio</dc:title>
</cp:coreProperties>
</file>