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0D26-A339-46F3-85AD-02796B3C0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DF10-2A7B-48C6-98D1-531AF73AA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3AF2-C9F1-4C1E-8C42-2A35BDCA7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5D0C-A61A-49B6-94BC-08265EAE3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366F-5EE0-40C6-8CC3-2B5BE4227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EECD-EFF2-489B-98C3-26328926C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CE21-E168-491F-A1BF-DB4CAD8A5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E27-7C16-403F-9B52-AF5BA79A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F599-A5CB-4943-A079-24318B03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EFF1-CC5E-442C-9A99-00526E3C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567-59C1-4281-8159-37EDCB29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BC97-2082-47F4-861E-D88675FC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1F09-62E4-427B-865F-AAB5C2EB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9CAF-DAD4-4695-870B-5FDC884A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34D9-2109-40C1-A4E5-FD4D6073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4BA3-AF2F-4DC6-BD07-08F2F27B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716-F2D4-487F-B833-1DACDD41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EA1F-AFCA-4924-9665-5143CB1D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6A87-AC18-4DCF-B15F-E6B741EF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127E-56E7-4556-A23A-B731B2746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icrosoft.com/download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Rectangle 8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iitb_logo.jpg"/>
          <p:cNvPicPr/>
          <p:nvPr/>
        </p:nvPicPr>
        <p:blipFill>
          <a:blip r:embed="rId1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3680" y="9903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c00000"/>
                </a:solidFill>
                <a:uFillTx/>
                <a:latin typeface="Calibri"/>
              </a:rPr>
              <a:t>Dubbing using Windows Movie Mak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685800" y="5181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EEP, IIT Bomb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685800" y="56386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ww.cdeep.iitb.ac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" name="Rectangle 12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8" descr="iitb_logo.jpg"/>
          <p:cNvPicPr/>
          <p:nvPr/>
        </p:nvPicPr>
        <p:blipFill>
          <a:blip r:embed="rId1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3680" y="6854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A SPOKEN TUTORIA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685800" y="2133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ONSOR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685800" y="5257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ww.sakshat.ac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685800" y="30481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alk to a Teacher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685800" y="42670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Mission on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ugh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8" descr="iitb_logo.jpg"/>
          <p:cNvPicPr/>
          <p:nvPr/>
        </p:nvPicPr>
        <p:blipFill>
          <a:blip r:embed="rId1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9903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c00000"/>
                </a:solidFill>
                <a:uFillTx/>
                <a:latin typeface="Calibri"/>
              </a:rPr>
              <a:t>Dubbing using Windows Movie Mak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685800" y="5181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7919"/>
                </a:solidFill>
                <a:latin typeface="Arial"/>
              </a:rPr>
              <a:t>CDEEP, IIT Bomb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685800" y="56386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ww.cdeep.iitb.ac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5" name="Rectangle 2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1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76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c00000"/>
                </a:solidFill>
                <a:uFillTx/>
                <a:latin typeface="Calibri"/>
              </a:rPr>
              <a:t>Dubbing using Windows Movie Mak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3" descr="guj.bmp"/>
          <p:cNvPicPr/>
          <p:nvPr/>
        </p:nvPicPr>
        <p:blipFill>
          <a:blip r:embed="rId1"/>
          <a:stretch/>
        </p:blipFill>
        <p:spPr>
          <a:xfrm>
            <a:off x="1295280" y="5500800"/>
            <a:ext cx="1243080" cy="547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hin.bmp"/>
          <p:cNvPicPr/>
          <p:nvPr/>
        </p:nvPicPr>
        <p:blipFill>
          <a:blip r:embed="rId2"/>
          <a:stretch/>
        </p:blipFill>
        <p:spPr>
          <a:xfrm>
            <a:off x="4233960" y="5505480"/>
            <a:ext cx="1023840" cy="549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pun.bmp"/>
          <p:cNvPicPr/>
          <p:nvPr/>
        </p:nvPicPr>
        <p:blipFill>
          <a:blip r:embed="rId3"/>
          <a:stretch/>
        </p:blipFill>
        <p:spPr>
          <a:xfrm>
            <a:off x="6372360" y="5411880"/>
            <a:ext cx="1704960" cy="547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16"/>
          <p:cNvSpPr/>
          <p:nvPr/>
        </p:nvSpPr>
        <p:spPr>
          <a:xfrm>
            <a:off x="914400" y="4659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Spoken tu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8" descr="iitb_logo.jpg"/>
          <p:cNvPicPr/>
          <p:nvPr/>
        </p:nvPicPr>
        <p:blipFill>
          <a:blip r:embed="rId4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84" name="TextBox 17"/>
          <p:cNvSpPr/>
          <p:nvPr/>
        </p:nvSpPr>
        <p:spPr>
          <a:xfrm>
            <a:off x="6477120" y="46594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Arial"/>
              </a:rPr>
              <a:t>A Movie C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movie_reel 2.jpg"/>
          <p:cNvPicPr/>
          <p:nvPr/>
        </p:nvPicPr>
        <p:blipFill>
          <a:blip r:embed="rId5"/>
          <a:stretch/>
        </p:blipFill>
        <p:spPr>
          <a:xfrm rot="20280000">
            <a:off x="6342120" y="2393640"/>
            <a:ext cx="183024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tuto.bmp"/>
          <p:cNvPicPr/>
          <p:nvPr/>
        </p:nvPicPr>
        <p:blipFill>
          <a:blip r:embed="rId6"/>
          <a:stretch/>
        </p:blipFill>
        <p:spPr>
          <a:xfrm>
            <a:off x="762120" y="1905120"/>
            <a:ext cx="2368440" cy="2743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8" name="Rectangle 1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5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76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c00000"/>
                </a:solidFill>
                <a:uFillTx/>
                <a:latin typeface="Calibri"/>
              </a:rPr>
              <a:t>Dubbing using Windows Movie Mak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2" descr="mic.jpeg"/>
          <p:cNvPicPr/>
          <p:nvPr/>
        </p:nvPicPr>
        <p:blipFill>
          <a:blip r:embed="rId1">
            <a:grayscl/>
          </a:blip>
          <a:srcRect l="10588" t="13863" r="10588" b="13863"/>
          <a:stretch/>
        </p:blipFill>
        <p:spPr>
          <a:xfrm rot="3000000">
            <a:off x="4020120" y="4820400"/>
            <a:ext cx="1174680" cy="1096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speaker.jpeg"/>
          <p:cNvPicPr/>
          <p:nvPr/>
        </p:nvPicPr>
        <p:blipFill>
          <a:blip r:embed="rId2"/>
          <a:stretch/>
        </p:blipFill>
        <p:spPr>
          <a:xfrm>
            <a:off x="6019920" y="2887560"/>
            <a:ext cx="2609640" cy="2522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headphones.jpg"/>
          <p:cNvPicPr/>
          <p:nvPr/>
        </p:nvPicPr>
        <p:blipFill>
          <a:blip r:embed="rId3"/>
          <a:stretch/>
        </p:blipFill>
        <p:spPr>
          <a:xfrm>
            <a:off x="838080" y="266688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95" name="TextBox 18"/>
          <p:cNvSpPr/>
          <p:nvPr/>
        </p:nvSpPr>
        <p:spPr>
          <a:xfrm>
            <a:off x="1066680" y="48769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set with audio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9"/>
          <p:cNvSpPr/>
          <p:nvPr/>
        </p:nvSpPr>
        <p:spPr>
          <a:xfrm>
            <a:off x="6477120" y="50403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4343400" y="557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8" descr="iitb_logo.jpg"/>
          <p:cNvPicPr/>
          <p:nvPr/>
        </p:nvPicPr>
        <p:blipFill>
          <a:blip r:embed="rId4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6" presetSubtype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0" name="Rectangle 8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676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c00000"/>
                </a:solidFill>
                <a:uFillTx/>
                <a:latin typeface="Calibri"/>
              </a:rPr>
              <a:t>Dubbing using Windows Movie Mak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8" descr="iitb_logo.jpg"/>
          <p:cNvPicPr/>
          <p:nvPr/>
        </p:nvPicPr>
        <p:blipFill>
          <a:blip r:embed="rId1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838080" y="2209680"/>
            <a:ext cx="7467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Movie Maker, a component of Microsoft Windows, is an editing software that is available for all the latest Windows version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, XP or V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download it free of cost from th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microsoft.com/down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20:37:51Z</dcterms:created>
  <dc:creator>ABC</dc:creator>
  <dc:description/>
  <dc:language>en-US</dc:language>
  <cp:lastModifiedBy>Nancy</cp:lastModifiedBy>
  <dcterms:modified xsi:type="dcterms:W3CDTF">2012-02-17T13:11:21Z</dcterms:modified>
  <cp:revision>57</cp:revision>
  <dc:subject/>
  <dc:title>How to use CamStudio</dc:title>
</cp:coreProperties>
</file>